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2B7-23F8-443E-A1B5-AB3F004E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072-69E2-406A-BB78-B9A105E8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CF4-0EE2-4EA8-94CC-D1456D2A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88D-1277-467F-B541-B991FCF3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2D9F-04E6-43EF-B9FD-CBECE4E8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3368-1CE7-4794-AD8D-712E8188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9CA8-EFEA-4F68-955B-00100E41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E93B-4D97-4E77-91AB-71E657CC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A5FD-2769-44E4-BBF4-D0AEC92D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5BD9-FD42-4915-BCB0-29C78564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2D3A-D298-4245-8AB2-67440DA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095-D4FE-48B9-8785-B90434FB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81B4-F96D-44B8-8F9D-8D0B715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B46-83A3-4608-AF26-9856D11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C06E-A1D5-4E81-9F37-82F0B59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940C-C341-4BA5-8D09-3F2E8949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9794-AC87-4CD3-BCA1-31E38DE7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552-C9AD-48B7-AD07-89F66EF9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C60-CAFE-4470-BAAA-0AB36827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2EA-B67E-44B8-8F94-4CC256B6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902-BDF1-4BD2-A86A-F1D00FD4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7CD-6E0F-4385-9A42-0F9FE5D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F53-C2A8-446F-BAFB-0A8DE7B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8D9-8A6B-4610-B68E-221B1C3F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70CE-57DC-436C-A8E5-753F1D253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01A4-04BA-472D-9CD3-908C6793D0D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growing ol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of older 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and cultural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ause of age (‘natur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(blessing / cur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te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‘calculation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can be totally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LANCED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er te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on (but often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dissembl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gift more simi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NEGATIVE RECIPROCITY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sh pa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calc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ually mo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e            Recipro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: inv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educating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building a ho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e with The Netherlan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 flipH="1">
            <a:off x="2743200" y="1371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Succesful age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hana: 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urkey: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Tahoma"/>
              </a:rPr>
              <a:t>Care for chronically sick or older peop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s not so much a matter of professional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ut takes place mainly at home, by relatives, unles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opular sector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xample: care for older people in Ghana in its social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Why important to study life and care of older peopl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creased depend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gration of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minishing family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generational 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ack of state fac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is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-mig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ension allow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stit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lder people in Ghana: context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health c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no long periods of fragile health and extreme depe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entia r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 “older”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s on various topics (e.g. meaning of “old”, respect, loneliness, care, building a house, marriage, sex, dea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s, frie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ool ess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hropological persp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ic /e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al relativ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nt 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oti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omanticization of old age in Af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essons from Afr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ack of anthropological interest in ageing (Why??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wn biography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nings of “old”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Twi      and    Englis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any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I have grown (peo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ye d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it is old (thin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am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o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39:47Z</dcterms:created>
  <dc:creator>BU</dc:creator>
  <dc:description/>
  <dc:language>en-US</dc:language>
  <cp:lastModifiedBy>Owner</cp:lastModifiedBy>
  <dcterms:modified xsi:type="dcterms:W3CDTF">2013-11-18T13:12:29Z</dcterms:modified>
  <cp:revision>9</cp:revision>
  <dc:subject/>
  <dc:title>Meanings of growing old Care of elderly people</dc:title>
</cp:coreProperties>
</file>